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96684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raceli Pedroza Jimèn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96684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56F9-DA2B-4217-8493-F050EA76D87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F64F-EF5C-4E20-86B6-7332517D8B7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4 Marcador de pie de página"/>
          <p:cNvSpPr/>
          <p:nvPr/>
        </p:nvSpPr>
        <p:spPr>
          <a:xfrm>
            <a:off x="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raceli Pedroza Jimène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BA1-057E-482D-8635-5D8092BD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B68-366E-4A04-BE94-5D260360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DEA-087E-487C-8D1B-C8291A77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EBBB-CB77-4923-840B-551BAE0B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2E0E0-D4AB-4436-A7FA-075D9AC447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ED053-E928-421D-8216-C70D99CF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CD2EC-57EC-45B5-8F17-8AE1C55B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67185-4716-4505-9DC2-60702E73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E171A-7924-4514-8996-27BAA278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ACD48-1151-430F-A0E1-174C29C1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E510C-2950-49E7-BB8F-70DDC0DC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5D2-2036-4AC1-8F01-3F903521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03DE8-0612-45BD-B3B8-3DB2CE3C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41D50-F0A2-4889-B811-673AAAF8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FDB6F-8A81-4F0C-8F10-26DB4035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1FCA9-2344-4029-BEC4-8DE1CE31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201A0-0868-4D1A-9F6E-59A1ACAA4E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D91-7523-4053-B701-1D6E6D9F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6B43-E3C1-4EB4-ABB2-F7583BD0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B5A-1D71-43AC-99BA-10C9D22F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9DC-D1FF-4863-AC19-DC54C286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00C-4198-4D8B-BEFB-C2C6F2E4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646F-340C-40A9-828A-695E1A4C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CE7-FB6D-4F5B-B4AF-FBF50127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3059280" y="0"/>
            <a:ext cx="6084720" cy="6165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CDE8-B086-49DD-BBF5-DFC4CAB3E913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3"/>
          <a:stretch/>
        </p:blipFill>
        <p:spPr>
          <a:xfrm>
            <a:off x="-20520" y="6746760"/>
            <a:ext cx="9164520" cy="138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5" descr=""/>
          <p:cNvPicPr/>
          <p:nvPr/>
        </p:nvPicPr>
        <p:blipFill>
          <a:blip r:embed="rId4"/>
          <a:stretch/>
        </p:blipFill>
        <p:spPr>
          <a:xfrm>
            <a:off x="250920" y="108000"/>
            <a:ext cx="865080" cy="83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3059280" y="0"/>
            <a:ext cx="6084720" cy="6165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-20520" y="6746760"/>
            <a:ext cx="9164520" cy="138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250920" y="108000"/>
            <a:ext cx="865080" cy="834840"/>
          </a:xfrm>
          <a:prstGeom prst="rect">
            <a:avLst/>
          </a:prstGeom>
          <a:ln w="0">
            <a:noFill/>
          </a:ln>
        </p:spPr>
      </p:pic>
      <p:pic>
        <p:nvPicPr>
          <p:cNvPr id="47" name="9 Imagen" descr=""/>
          <p:cNvPicPr/>
          <p:nvPr/>
        </p:nvPicPr>
        <p:blipFill>
          <a:blip r:embed="rId5"/>
          <a:stretch/>
        </p:blipFill>
        <p:spPr>
          <a:xfrm>
            <a:off x="5580000" y="297000"/>
            <a:ext cx="1892520" cy="539640"/>
          </a:xfrm>
          <a:prstGeom prst="rect">
            <a:avLst/>
          </a:prstGeom>
          <a:ln w="0">
            <a:noFill/>
          </a:ln>
        </p:spPr>
      </p:pic>
      <p:pic>
        <p:nvPicPr>
          <p:cNvPr id="48" name="10 Imagen" descr=""/>
          <p:cNvPicPr/>
          <p:nvPr/>
        </p:nvPicPr>
        <p:blipFill>
          <a:blip r:embed="rId6"/>
          <a:stretch/>
        </p:blipFill>
        <p:spPr>
          <a:xfrm>
            <a:off x="7877160" y="260280"/>
            <a:ext cx="871560" cy="644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C2E8-02D4-4D3D-806C-3508C16F71F0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 Rectángulo" descr=""/>
          <p:cNvPicPr/>
          <p:nvPr/>
        </p:nvPicPr>
        <p:blipFill>
          <a:blip r:embed="rId1"/>
          <a:stretch/>
        </p:blipFill>
        <p:spPr>
          <a:xfrm>
            <a:off x="841320" y="993600"/>
            <a:ext cx="6583320" cy="3913200"/>
          </a:xfrm>
          <a:prstGeom prst="rect">
            <a:avLst/>
          </a:prstGeom>
          <a:ln w="0">
            <a:noFill/>
          </a:ln>
        </p:spPr>
      </p:pic>
      <p:pic>
        <p:nvPicPr>
          <p:cNvPr id="97" name="il_fi" descr="http://4.bp.blogspot.com/-Ii6Uj4S-qc4/TfuzVVoF6gI/AAAAAAAAA-o/PWq8afA2HVk/s1600/DSC04754.JPG"/>
          <p:cNvPicPr/>
          <p:nvPr/>
        </p:nvPicPr>
        <p:blipFill>
          <a:blip r:embed="rId2"/>
          <a:stretch/>
        </p:blipFill>
        <p:spPr>
          <a:xfrm>
            <a:off x="6227640" y="3429000"/>
            <a:ext cx="25210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042560" y="980640"/>
            <a:ext cx="7777080" cy="496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000000"/>
                </a:solidFill>
                <a:latin typeface="Calibri"/>
              </a:rPr>
              <a:t>Generar acciones para que directivos y docentes comprendan y se apropien críticamente del Plan y  los Programas de Estudi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000000"/>
                </a:solidFill>
                <a:latin typeface="Calibri"/>
                <a:ea typeface="Aharoni"/>
              </a:rPr>
              <a:t>Impulsar y orientar el trabajo colegiado en las escuelas de educación básica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Calibri"/>
              </a:rPr>
              <a:t>Promover procesos de evaluación diagnóstica y permanente atendiendo a los resultados obtenidos en diversas fuentes, entre ellas, las pruebas estandarizada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1 Título"/>
          <p:cNvSpPr/>
          <p:nvPr/>
        </p:nvSpPr>
        <p:spPr>
          <a:xfrm>
            <a:off x="1332000" y="1557360"/>
            <a:ext cx="7056360" cy="25923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FORMACIÓN Y ACTUALIZACIÓN PROFESIONAL PARA ASESORES ACADÈMIC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755640" y="836280"/>
            <a:ext cx="7920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l SAAE plantean tres líneas de form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Las dos primeras constituyen una plataforma común orientada a la profesionalización de la  asesoría académica y al conocimiento, análisis y reflexión de la política educativa. Se dirige a todo el universo de asesores académic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La tercera, se orienta al fortalecimiento para el desempeño de las tareas específicas relacionadas con las necesidades particulares de docentes y directivos de cada nivel y o modalidad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1 Rectángulo"/>
          <p:cNvSpPr/>
          <p:nvPr/>
        </p:nvSpPr>
        <p:spPr>
          <a:xfrm>
            <a:off x="552600" y="549360"/>
            <a:ext cx="8267400" cy="52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Participación en el diagnóstico  y  construcción de los lineamientos nacionales para la operación del SAA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Integración del equipo estatal responsable de la operación  del SAA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Diagnóstico de la situación que guarda el servicio de asesoría académica a las escuela de educación básica en el estad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Diseño del trayecto formativo para asesores académicos en coordinación con la Instancia Estatal de Formación Continu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1 Título"/>
          <p:cNvSpPr/>
          <p:nvPr/>
        </p:nvSpPr>
        <p:spPr>
          <a:xfrm>
            <a:off x="5435640" y="115920"/>
            <a:ext cx="3240000" cy="433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ACCIONE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1 CuadroTexto"/>
          <p:cNvSpPr/>
          <p:nvPr/>
        </p:nvSpPr>
        <p:spPr>
          <a:xfrm>
            <a:off x="468360" y="692280"/>
            <a:ext cx="828036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Reforma Integral de la Educación Bás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te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a educación enfocada a la resolución de problemas, más que en la  acumulación de conten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strucción de modelos de gestión que impulsen la autonomía de las escuel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actualización permanente de los docentes orientada a la gestión de los aprendizaj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ctualización permanente de los materiales educa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Articulación de los niveles de educación Bás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Araceli Pedroza J   Gestiòn Esc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4 CuadroTexto"/>
          <p:cNvSpPr/>
          <p:nvPr/>
        </p:nvSpPr>
        <p:spPr>
          <a:xfrm>
            <a:off x="755640" y="119700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Reforma Integral de la Educación Básica requiere que los colectivos escolares desarrollen nuevas formas de relación, colaboración y organización; es decir, una gestión que se centre en el aprendizaje de los alumnos, con corresponsabilidad, transparencia y rendición de cuen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1 CuadroTexto"/>
          <p:cNvSpPr/>
          <p:nvPr/>
        </p:nvSpPr>
        <p:spPr>
          <a:xfrm>
            <a:off x="755640" y="1179360"/>
            <a:ext cx="7634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asesoría y acompañamiento sistemático y cotidiano a las escuelas, retoma el modelo de gestión, como eje integrador y organizativo de los componentes, líneas de acción y estrategias para la mejora del logro educativo, atendiendo desde el espacio escolar la actualización de docentes y directiv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 Título" descr=""/>
          <p:cNvPicPr/>
          <p:nvPr/>
        </p:nvPicPr>
        <p:blipFill>
          <a:blip r:embed="rId1"/>
          <a:stretch/>
        </p:blipFill>
        <p:spPr>
          <a:xfrm>
            <a:off x="176040" y="262080"/>
            <a:ext cx="8589960" cy="950760"/>
          </a:xfrm>
          <a:prstGeom prst="rect">
            <a:avLst/>
          </a:prstGeom>
          <a:ln w="0">
            <a:noFill/>
          </a:ln>
        </p:spPr>
      </p:pic>
      <p:pic>
        <p:nvPicPr>
          <p:cNvPr id="103" name="5 Marcador de contenido" descr=""/>
          <p:cNvPicPr/>
          <p:nvPr/>
        </p:nvPicPr>
        <p:blipFill>
          <a:blip r:embed="rId2"/>
          <a:stretch/>
        </p:blipFill>
        <p:spPr>
          <a:xfrm>
            <a:off x="401760" y="1189080"/>
            <a:ext cx="834048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 Título"/>
          <p:cNvSpPr/>
          <p:nvPr/>
        </p:nvSpPr>
        <p:spPr>
          <a:xfrm>
            <a:off x="3851280" y="333360"/>
            <a:ext cx="5041800" cy="827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Propósito general del SAAE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2 CuadroTexto"/>
          <p:cNvSpPr/>
          <p:nvPr/>
        </p:nvSpPr>
        <p:spPr>
          <a:xfrm>
            <a:off x="527040" y="1557360"/>
            <a:ext cx="81360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  <a:ea typeface="Calibri"/>
              </a:rPr>
              <a:t>Establecer mecanismos de acompañamiento académico institucional para atender pertinentemente las necesidades específicas de los docentes, derivadas de su práctica educativa cotidiana relacionada directamente con el logro educativo de sus estudiant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08000" y="260280"/>
            <a:ext cx="5040360" cy="720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ropósitos específ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125000"/>
            <a:ext cx="792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  <a:ea typeface="Calibri"/>
              </a:rPr>
              <a:t>a)Conocer el status de la función de asesoría que prevalece  en  el est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  <a:ea typeface="Calibri"/>
              </a:rPr>
              <a:t>b) Identificar áreas de oportunidad a fin de generar condiciones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adecuadas para las tareas propias de la asesoría académica a la escuela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  <a:ea typeface="Calibri"/>
              </a:rPr>
              <a:t>c) Ofrecer una formación adecuada a las figuras que brindan asesoría académ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  <a:ea typeface="Calibri"/>
              </a:rPr>
              <a:t>d) Implementar procesos de acompañamiento a las escuelas de educación básica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1640" y="1773000"/>
            <a:ext cx="6553080" cy="2447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La</a:t>
            </a:r>
            <a:br>
              <a:rPr sz="4000"/>
            </a:b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Asesoría Académica a la Escuel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11280" y="836640"/>
            <a:ext cx="8208720" cy="511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asesoría académica a la escuela se entiende como un proceso orientado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Impulsar y apoyar la mejora continua de los procesos educativos  que afectan la enseñanza y el aprendizaje de los estudiantes de educación básic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Promover y apoyar los procesos formativos de directivos  y docentes, a partir de  la reflexión sistemática sobre sus prácticas educativas y de gestió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15:44:15Z</dcterms:created>
  <dc:creator>NORMA ERIKA MARTINEZ FERNANDEZ</dc:creator>
  <dc:description/>
  <dc:language>en-US</dc:language>
  <cp:lastModifiedBy>Martha Alicia Vital Montes</cp:lastModifiedBy>
  <cp:lastPrinted>2011-08-30T17:25:20Z</cp:lastPrinted>
  <dcterms:modified xsi:type="dcterms:W3CDTF">2012-05-17T19:21:52Z</dcterms:modified>
  <cp:revision>301</cp:revision>
  <dc:subject/>
  <dc:title>Presentación de PowerPoint</dc:title>
</cp:coreProperties>
</file>